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F05A97-2CF1-4A55-B6D1-F6A918B7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A18F3-BAE6-4278-B3DF-14272D98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352E4-D969-44F5-8E3B-0D884741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6B618-7BF5-4FC2-B113-C543BF6A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FBD35-3510-4E98-A175-2C1A9EC5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918B19-A285-45D9-A1C2-DBE80C95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841F8-909E-4380-A25D-A93B500A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E6E8D-A8FE-41BA-90AE-902441B3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7BB99-CBF1-4DD2-9CB0-25932764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3A75-1A88-451E-BB02-09083C0DB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CB6C-2DF9-40F8-A2CB-A4E286A9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92BA-A836-47B5-B610-16AFA758A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FD25-21A4-471B-AC73-8FDFC694A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40EB-C289-457F-A8C8-D0C93D708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DF04-756B-4399-B093-2005D798D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BA87-F06F-4D9B-97D8-5D5B3A45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71D2-A719-468C-BA3C-818E468AB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D0F4-28C6-4200-A00F-DC1DD6743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199E-1216-48A1-BBDB-28238CA27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60A6-7855-45FA-8E4B-067B00C93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48D1-2C78-46B8-9FE5-4AC90B99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A761B597-2C26-44AC-9A6B-874EFFF63B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F55E8C0F-F726-45A9-9A86-AF668AD405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807696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z déjà appris le groupe des verb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un infinitif qui fini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s verbs 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ent un second groupe. Certains verbes communs de ce groupe sont irrégul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2BFC121E-BB1D-434C-B29B-8ED95FAED6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6953400" cy="20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1447920" y="5105520"/>
            <a:ext cx="6237000" cy="1344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09480" y="1676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ime l’idée de quitter une pièce ou un bâtiment. Il exprime également l’idée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ing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vec des amis ou en amoureux. La pré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tilisée aprè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rsqu’un lieu est mention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B3DF4F78-5CEA-4B5A-9B53-8EDA93FCA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29468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44376198-DB30-4B39-940E-EBC2E77AAE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250640"/>
            <a:ext cx="8458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général,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 utilisé pour exprimer l’idée de départ d’un lieu de taille importante, comme une ville, un pays ou une région. Souvent, on utilise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t la préposition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ou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vec le nom de la destination pour di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leave for (a place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523880" y="3024360"/>
            <a:ext cx="6096240" cy="169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1603440" y="4673520"/>
            <a:ext cx="593712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DEC4D013-675A-4B51-B0BE-4060ADC752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990720" y="2577960"/>
            <a:ext cx="7391160" cy="359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739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i une liste de verbes conjugués comm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A1344DA8-B7CF-440E-99AB-8EE954C15F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1028880" y="1486080"/>
            <a:ext cx="7086600" cy="2973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019240" y="4610160"/>
            <a:ext cx="54104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AD9BAE6E-8D7E-4380-B778-0EC3678A8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7748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en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t signifi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f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m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523880" y="2558880"/>
            <a:ext cx="640080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EA4B1931-DDBA-4F20-A0D2-817DA50F65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547560" y="1371600"/>
            <a:ext cx="804888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762120" y="2590920"/>
          <a:ext cx="7850160" cy="364176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364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__ (sortir) vers neuf heur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__________ (servir) des boissons gazeuses aux invité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__ (partir) quand pour le Canada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e __________ (dormir) pas en cour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__________ (courir) pour attraper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t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le bu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anges des oignons? Ça __________ (sentir) mauvai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__ (sortir) avec des copains ce soir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__________ (partir) pour Dijon ce week-en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"/>
          <p:cNvSpPr/>
          <p:nvPr/>
        </p:nvSpPr>
        <p:spPr>
          <a:xfrm>
            <a:off x="932040" y="1555920"/>
            <a:ext cx="7716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1468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u verb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057400" y="2592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sor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5:07:18Z</dcterms:created>
  <dc:creator>© 2011 Vista Higher Learning. All rights reserved.</dc:creator>
  <dc:description/>
  <cp:keywords/>
  <dc:language>en-US</dc:language>
  <cp:lastModifiedBy>Viviane Grebert</cp:lastModifiedBy>
  <dcterms:modified xsi:type="dcterms:W3CDTF">2011-10-02T22:53:37Z</dcterms:modified>
  <cp:revision>65</cp:revision>
  <dc:subject>Espaces: Rendez-vous avec le monde francophone, Second Edition</dc:subject>
  <dc:title>Unité 5: Les loisirs</dc:title>
</cp:coreProperties>
</file>